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70F0-70A5-404F-BB13-C5A3D1CF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E7A-A1F8-4B10-BA49-501934B4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38CB-5205-4C46-9A90-4DC75260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100-617E-458C-9F5E-620CFF5D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23BA-17AC-4F14-896A-65F42C45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E745-AF3B-4CF5-8D7F-A665BF77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ED92-6A4E-40CD-8CE4-CB71478C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9222-2D5E-4F52-9119-ACCABF39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926E-7FBE-4EA0-AB45-767B057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07E0-3754-40C4-90A2-C8063F4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2C69-22DA-45E7-95D0-33AB4564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961-CD32-43A4-BAC5-D65D81FC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2F98-C541-452B-B4C7-8B0724E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618B-0346-463C-A15D-718E9A14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A463-9329-49CF-93F1-4A19E097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A8020-C6CC-49A0-865E-2F29F608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5FD07-D0CB-4990-823F-61198BD3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54B-E29E-4A61-9BFE-9336372AC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BDF3-5D9B-479F-90B2-8107D82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0BF5-B4D0-49D0-B28B-224B141F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E1E-5BEB-4D21-8F45-F1E14F63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72C-2E38-4AB0-97F9-944806B3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A12-F4FC-470F-9E96-FB5279A1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E26B-BEEB-47C6-85E8-CF8F9F8E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67C9-9306-4108-9DBB-AA31A09DAFA3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9D39-10A7-4FED-BCE7-5E0292F94F0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2DBA-0554-4E76-8237-36FE9934FBA7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D0D0-542C-4368-A785-7C2B0635B8D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CD92-4ED5-482C-A313-340F2B8408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799308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态度的形成与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834920" y="2781360"/>
            <a:ext cx="662436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消费者的态度与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消费者态度的形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消费者态度的改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四节  消费者态度的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7B77-7B9A-4703-A2E2-83B5B405D53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消费者态度的形成与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618920" y="1785600"/>
            <a:ext cx="711036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形成的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形成的相关理论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态度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78FD-FB9A-4A0D-B7EE-0FDE465041C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58560" y="1719360"/>
            <a:ext cx="7427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对产品的观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获得的产品信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人经验与相关群体、大众传媒的影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C9EB-6695-4FB8-B17F-6500FAE74D4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形成的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4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5" name="画布 150"/>
          <p:cNvGrpSpPr/>
          <p:nvPr/>
        </p:nvGrpSpPr>
        <p:grpSpPr>
          <a:xfrm>
            <a:off x="900000" y="1197000"/>
            <a:ext cx="7632720" cy="5040360"/>
            <a:chOff x="900000" y="1197000"/>
            <a:chExt cx="7632720" cy="5040360"/>
          </a:xfrm>
        </p:grpSpPr>
        <p:sp>
          <p:nvSpPr>
            <p:cNvPr id="246" name="AutoShape 33"/>
            <p:cNvSpPr/>
            <p:nvPr/>
          </p:nvSpPr>
          <p:spPr>
            <a:xfrm>
              <a:off x="900000" y="1197000"/>
              <a:ext cx="763272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47" name="Group 126"/>
            <p:cNvGrpSpPr/>
            <p:nvPr/>
          </p:nvGrpSpPr>
          <p:grpSpPr>
            <a:xfrm>
              <a:off x="1072800" y="1336680"/>
              <a:ext cx="7459560" cy="4760640"/>
              <a:chOff x="1072800" y="1336680"/>
              <a:chExt cx="7459560" cy="4760640"/>
            </a:xfrm>
          </p:grpSpPr>
          <p:sp>
            <p:nvSpPr>
              <p:cNvPr id="248" name="Rectangle 127"/>
              <p:cNvSpPr/>
              <p:nvPr/>
            </p:nvSpPr>
            <p:spPr>
              <a:xfrm>
                <a:off x="3848760" y="4756320"/>
                <a:ext cx="433692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调节其余的信念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9" name="Rectangle 128"/>
              <p:cNvSpPr/>
              <p:nvPr/>
            </p:nvSpPr>
            <p:spPr>
              <a:xfrm>
                <a:off x="1073160" y="4556880"/>
                <a:ext cx="2255040" cy="560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态度            改变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0" name="Rectangle 129"/>
              <p:cNvSpPr/>
              <p:nvPr/>
            </p:nvSpPr>
            <p:spPr>
              <a:xfrm>
                <a:off x="1073160" y="5677200"/>
                <a:ext cx="225504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行为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1" name="AutoShape 130"/>
              <p:cNvSpPr/>
              <p:nvPr/>
            </p:nvSpPr>
            <p:spPr>
              <a:xfrm rot="2508600">
                <a:off x="2287080" y="4656600"/>
                <a:ext cx="357480" cy="381240"/>
              </a:xfrm>
              <a:prstGeom prst="rtTriangl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2" name="Rectangle 131"/>
              <p:cNvSpPr/>
              <p:nvPr/>
            </p:nvSpPr>
            <p:spPr>
              <a:xfrm>
                <a:off x="1593720" y="1336680"/>
                <a:ext cx="8661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背景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3" name="Rectangle 132"/>
              <p:cNvSpPr/>
              <p:nvPr/>
            </p:nvSpPr>
            <p:spPr>
              <a:xfrm>
                <a:off x="3847680" y="1336680"/>
                <a:ext cx="1215360" cy="419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文化影响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4" name="Rectangle 133"/>
              <p:cNvSpPr/>
              <p:nvPr/>
            </p:nvSpPr>
            <p:spPr>
              <a:xfrm>
                <a:off x="2633400" y="2036520"/>
                <a:ext cx="866160" cy="420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教养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2027160" y="1756440"/>
                <a:ext cx="1040040" cy="280440"/>
                <a:chOff x="2027160" y="1756440"/>
                <a:chExt cx="1040040" cy="280440"/>
              </a:xfrm>
            </p:grpSpPr>
            <p:cxnSp>
              <p:nvCxnSpPr>
                <p:cNvPr id="256" name="AutoShape 134"/>
                <p:cNvCxnSpPr/>
                <p:nvPr/>
              </p:nvCxnSpPr>
              <p:spPr>
                <a:xfrm>
                  <a:off x="2027160" y="1756440"/>
                  <a:ext cx="1040400" cy="280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57" name=""/>
                <p:cNvSpPr txBox="1"/>
                <p:nvPr/>
              </p:nvSpPr>
              <p:spPr>
                <a:xfrm rot="16200000">
                  <a:off x="2406960" y="1376640"/>
                  <a:ext cx="280080" cy="103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81160" y="1756080"/>
                <a:ext cx="1474920" cy="140040"/>
                <a:chOff x="2981160" y="1756080"/>
                <a:chExt cx="1474920" cy="140040"/>
              </a:xfrm>
            </p:grpSpPr>
            <p:cxnSp>
              <p:nvCxnSpPr>
                <p:cNvPr id="259" name="AutoShape 135"/>
                <p:cNvCxnSpPr/>
                <p:nvPr/>
              </p:nvCxnSpPr>
              <p:spPr>
                <a:xfrm flipH="1">
                  <a:off x="2981160" y="1756080"/>
                  <a:ext cx="1475280" cy="140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60" name=""/>
                <p:cNvSpPr txBox="1"/>
                <p:nvPr/>
              </p:nvSpPr>
              <p:spPr>
                <a:xfrm rot="5400000">
                  <a:off x="3648600" y="1088640"/>
                  <a:ext cx="140040" cy="14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61" name="Group 136"/>
              <p:cNvGrpSpPr/>
              <p:nvPr/>
            </p:nvGrpSpPr>
            <p:grpSpPr>
              <a:xfrm>
                <a:off x="3501720" y="3521880"/>
                <a:ext cx="5030640" cy="807840"/>
                <a:chOff x="3501720" y="3521880"/>
                <a:chExt cx="5030640" cy="807840"/>
              </a:xfrm>
            </p:grpSpPr>
            <p:sp>
              <p:nvSpPr>
                <p:cNvPr id="262" name="Rectangle 137"/>
                <p:cNvSpPr/>
                <p:nvPr/>
              </p:nvSpPr>
              <p:spPr>
                <a:xfrm>
                  <a:off x="3501720" y="3910680"/>
                  <a:ext cx="12139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观察和教育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3" name="Rectangle 138"/>
                <p:cNvSpPr/>
                <p:nvPr/>
              </p:nvSpPr>
              <p:spPr>
                <a:xfrm>
                  <a:off x="4762080" y="3910680"/>
                  <a:ext cx="116784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个人体验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4" name="Rectangle 139"/>
                <p:cNvSpPr/>
                <p:nvPr/>
              </p:nvSpPr>
              <p:spPr>
                <a:xfrm>
                  <a:off x="6023520" y="3910680"/>
                  <a:ext cx="112068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朋友影响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Rectangle 140"/>
                <p:cNvSpPr/>
                <p:nvPr/>
              </p:nvSpPr>
              <p:spPr>
                <a:xfrm>
                  <a:off x="7284240" y="3910680"/>
                  <a:ext cx="1248120" cy="419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重要事件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108320" y="3521880"/>
                  <a:ext cx="3800520" cy="389880"/>
                  <a:chOff x="4108320" y="3521880"/>
                  <a:chExt cx="3800520" cy="389880"/>
                </a:xfrm>
              </p:grpSpPr>
              <p:cxnSp>
                <p:nvCxnSpPr>
                  <p:cNvPr id="267" name="AutoShape 141"/>
                  <p:cNvCxnSpPr/>
                  <p:nvPr/>
                </p:nvCxnSpPr>
                <p:spPr>
                  <a:xfrm>
                    <a:off x="4108320" y="3910680"/>
                    <a:ext cx="38005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68" name=""/>
                  <p:cNvSpPr txBox="1"/>
                  <p:nvPr/>
                </p:nvSpPr>
                <p:spPr>
                  <a:xfrm rot="16200000">
                    <a:off x="6008400" y="2010960"/>
                    <a:ext cx="720" cy="3799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5346000" y="3521880"/>
                  <a:ext cx="1238760" cy="389880"/>
                  <a:chOff x="5346000" y="3521880"/>
                  <a:chExt cx="1238760" cy="389880"/>
                </a:xfrm>
              </p:grpSpPr>
              <p:cxnSp>
                <p:nvCxnSpPr>
                  <p:cNvPr id="270" name="AutoShape 142"/>
                  <p:cNvCxnSpPr/>
                  <p:nvPr/>
                </p:nvCxnSpPr>
                <p:spPr>
                  <a:xfrm>
                    <a:off x="5346000" y="3910680"/>
                    <a:ext cx="12391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1" name=""/>
                  <p:cNvSpPr txBox="1"/>
                  <p:nvPr/>
                </p:nvSpPr>
                <p:spPr>
                  <a:xfrm rot="16200000">
                    <a:off x="5964840" y="3291840"/>
                    <a:ext cx="720" cy="1238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272" name="Line 143"/>
              <p:cNvSpPr/>
              <p:nvPr/>
            </p:nvSpPr>
            <p:spPr>
              <a:xfrm>
                <a:off x="4195800" y="4336200"/>
                <a:ext cx="72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73" name="Group 144"/>
              <p:cNvGrpSpPr/>
              <p:nvPr/>
            </p:nvGrpSpPr>
            <p:grpSpPr>
              <a:xfrm>
                <a:off x="1072800" y="2709720"/>
                <a:ext cx="3990240" cy="700920"/>
                <a:chOff x="1072800" y="2709720"/>
                <a:chExt cx="3990240" cy="700920"/>
              </a:xfrm>
            </p:grpSpPr>
            <p:sp>
              <p:nvSpPr>
                <p:cNvPr id="274" name="Line 145"/>
                <p:cNvSpPr/>
                <p:nvPr/>
              </p:nvSpPr>
              <p:spPr>
                <a:xfrm>
                  <a:off x="3501720" y="3409560"/>
                  <a:ext cx="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75" name="Rectangle 146"/>
                <p:cNvSpPr/>
                <p:nvPr/>
              </p:nvSpPr>
              <p:spPr>
                <a:xfrm>
                  <a:off x="1073160" y="2709720"/>
                  <a:ext cx="3989880" cy="699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不会被改变的信念      可以被改变的信念</a:t>
                  </a:r>
                  <a:endParaRPr b="0" lang="en-US" sz="14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76" name=""/>
                <p:cNvGrpSpPr/>
                <p:nvPr/>
              </p:nvGrpSpPr>
              <p:grpSpPr>
                <a:xfrm>
                  <a:off x="1072800" y="3059640"/>
                  <a:ext cx="3990240" cy="1080"/>
                  <a:chOff x="1072800" y="3059640"/>
                  <a:chExt cx="3990240" cy="1080"/>
                </a:xfrm>
              </p:grpSpPr>
              <p:cxnSp>
                <p:nvCxnSpPr>
                  <p:cNvPr id="277" name="AutoShape 147"/>
                  <p:cNvCxnSpPr/>
                  <p:nvPr/>
                </p:nvCxnSpPr>
                <p:spPr>
                  <a:xfrm>
                    <a:off x="1072800" y="3059640"/>
                    <a:ext cx="399060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78" name=""/>
                  <p:cNvSpPr txBox="1"/>
                  <p:nvPr/>
                </p:nvSpPr>
                <p:spPr>
                  <a:xfrm>
                    <a:off x="1072800" y="3059640"/>
                    <a:ext cx="398988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3068280" y="3409560"/>
                  <a:ext cx="1080" cy="1080"/>
                  <a:chOff x="3068280" y="3409560"/>
                  <a:chExt cx="1080" cy="1080"/>
                </a:xfrm>
              </p:grpSpPr>
              <p:cxnSp>
                <p:nvCxnSpPr>
                  <p:cNvPr id="280" name="AutoShape 148"/>
                  <p:cNvCxnSpPr/>
                  <p:nvPr/>
                </p:nvCxnSpPr>
                <p:spPr>
                  <a:xfrm>
                    <a:off x="3068280" y="3409560"/>
                    <a:ext cx="144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281" name=""/>
                  <p:cNvSpPr txBox="1"/>
                  <p:nvPr/>
                </p:nvSpPr>
                <p:spPr>
                  <a:xfrm>
                    <a:off x="3068280" y="3409560"/>
                    <a:ext cx="72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82" name="Line 149"/>
                <p:cNvSpPr/>
                <p:nvPr/>
              </p:nvSpPr>
              <p:spPr>
                <a:xfrm>
                  <a:off x="2981160" y="3129480"/>
                  <a:ext cx="720" cy="280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83" name="Line 151"/>
              <p:cNvSpPr/>
              <p:nvPr/>
            </p:nvSpPr>
            <p:spPr>
              <a:xfrm>
                <a:off x="2113920" y="3436560"/>
                <a:ext cx="0" cy="11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4" name="Line 152"/>
              <p:cNvSpPr/>
              <p:nvPr/>
            </p:nvSpPr>
            <p:spPr>
              <a:xfrm>
                <a:off x="2113920" y="5117040"/>
                <a:ext cx="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5" name="Line 153"/>
              <p:cNvSpPr/>
              <p:nvPr/>
            </p:nvSpPr>
            <p:spPr>
              <a:xfrm>
                <a:off x="541008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Line 154"/>
              <p:cNvSpPr/>
              <p:nvPr/>
            </p:nvSpPr>
            <p:spPr>
              <a:xfrm>
                <a:off x="8012160" y="431712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Line 155"/>
              <p:cNvSpPr/>
              <p:nvPr/>
            </p:nvSpPr>
            <p:spPr>
              <a:xfrm>
                <a:off x="6624360" y="4330800"/>
                <a:ext cx="108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Line 156"/>
              <p:cNvSpPr/>
              <p:nvPr/>
            </p:nvSpPr>
            <p:spPr>
              <a:xfrm>
                <a:off x="4369320" y="3436560"/>
                <a:ext cx="720" cy="15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3067920" y="2475720"/>
              <a:ext cx="720" cy="234360"/>
              <a:chOff x="3067920" y="2475720"/>
              <a:chExt cx="720" cy="234360"/>
            </a:xfrm>
          </p:grpSpPr>
          <p:cxnSp>
            <p:nvCxnSpPr>
              <p:cNvPr id="290" name="直接箭头连接符 248"/>
              <p:cNvCxnSpPr/>
              <p:nvPr/>
            </p:nvCxnSpPr>
            <p:spPr>
              <a:xfrm>
                <a:off x="3067920" y="2475720"/>
                <a:ext cx="1080" cy="2347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91" name=""/>
              <p:cNvSpPr txBox="1"/>
              <p:nvPr/>
            </p:nvSpPr>
            <p:spPr>
              <a:xfrm>
                <a:off x="3067920" y="2475720"/>
                <a:ext cx="360" cy="23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4DF1-F8CA-4CE6-8654-C175BB3144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凯尔曼提出了态度形成的认知三阶段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模仿或服从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同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  ♣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内化阶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4713F-CBA0-4C82-AF03-FC132E5B02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7543800" cy="79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衡理论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eid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727200" y="1052640"/>
            <a:ext cx="8416800" cy="56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CDDD-0BE2-4798-8E12-C05BC8740D7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87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53964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认知失调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失调是指某人在做出决定、采取行动或者接触到一些有违原先信念、情感或价值的信息之后所体验到的冲突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当人们的态度与行为不一致，并且无法对自己的行为找出外部理由时，常常会引起个体的心理紧张，为了克服这种由认知失调引起的紧张，人们需要采取多种方法，以减少自己的认知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D0BBC-960C-496D-8C54-664BB9749A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形成的相关理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763280" y="1719360"/>
            <a:ext cx="6923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知觉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归因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社会判断理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和谐理论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2F21-ABD4-4876-9A6D-F787F760047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影响态度与行为关系的因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获得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是行为的预测指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间因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态度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622D-2F98-495A-BAB1-A7DFE4E3C35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消费者态度的改变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619280" y="2133360"/>
            <a:ext cx="706752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改变与影响因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改变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787-9D23-4A7A-A47F-5DAF5DD420F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1187280" y="2492280"/>
            <a:ext cx="77266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性质改变和程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有消费者态度改变和潜在消费者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购前态度改变和购后态度改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D5BC-623A-478E-A152-74B10A4162D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消费者态度的概念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态度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消费者态度的构成与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消费者态度的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4957-6EB5-4673-960D-038A7ABE67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改变与影响因素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28760" y="178596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态度改变的影响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5286240" y="2286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1187280" y="2492280"/>
            <a:ext cx="77266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群体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消费者性质的影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1979640" y="4005360"/>
            <a:ext cx="77263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原有态度与目标态度之间的距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对产品的参与程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费者态度的强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3FD0-7268-4091-8F79-8EE43C25236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115640" y="185688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694-A25C-4E76-9CE8-38678AD65FE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94920" y="764640"/>
            <a:ext cx="7613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霍夫兰德和詹尼斯的态度改变说服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813800" cy="3816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6628-5088-4AC3-84E4-520CA23611C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4920" y="620640"/>
            <a:ext cx="76136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20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精细加工可能性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5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6769080" cy="5480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D3DB-5E25-4B08-BF51-ABFB460C85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态度的改变策略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94920" y="764640"/>
            <a:ext cx="76136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导向的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700200" y="1989000"/>
            <a:ext cx="8443800" cy="432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556-E52F-47FB-85C3-58ABE1A8814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四节 消费者态度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403280" y="1719360"/>
            <a:ext cx="7283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态度测量的定义与内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态度测量的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E68-D424-4B6D-BEEE-253F7F9043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态度测量的定义与内容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763280" y="1844640"/>
            <a:ext cx="69231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认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情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行为倾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2FE6-751D-442A-9A27-CA91FAB2E76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态度测量的方法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403280" y="1785960"/>
            <a:ext cx="732636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瑟斯通量表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Thurstone Scal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利克特量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非量表测量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面谈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2280" indent="-347760">
              <a:lnSpc>
                <a:spcPct val="150000"/>
              </a:lnSpc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场观察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4A9C-B218-4498-A165-8466DF5C4A1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态度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态度是后天学到的偏好，它以一贯有利或不利的方式对一个对象或一类对象做出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rdon Allpo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复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矢量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62BA-F094-4BDB-A7DC-207D3C114BC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000" y="1557360"/>
            <a:ext cx="843588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情感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对某个事物的感情或情绪性反应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认知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于事物的具体或整体的信念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为成分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对某事物或某项活动做出的特定反应的倾向，是根据人们对某一对象所表现出来的行为的观察而形成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8852-3C09-4394-B586-9788A5ED7F6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000" y="980640"/>
            <a:ext cx="8435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0" name="画布 192"/>
          <p:cNvGrpSpPr/>
          <p:nvPr/>
        </p:nvGrpSpPr>
        <p:grpSpPr>
          <a:xfrm>
            <a:off x="755640" y="2060640"/>
            <a:ext cx="7561440" cy="3816000"/>
            <a:chOff x="755640" y="2060640"/>
            <a:chExt cx="7561440" cy="3816000"/>
          </a:xfrm>
        </p:grpSpPr>
        <p:sp>
          <p:nvSpPr>
            <p:cNvPr id="171" name="AutoShape 28"/>
            <p:cNvSpPr/>
            <p:nvPr/>
          </p:nvSpPr>
          <p:spPr>
            <a:xfrm>
              <a:off x="755640" y="2060640"/>
              <a:ext cx="7561440" cy="38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2" name="组合 224"/>
            <p:cNvGrpSpPr/>
            <p:nvPr/>
          </p:nvGrpSpPr>
          <p:grpSpPr>
            <a:xfrm>
              <a:off x="755640" y="2103480"/>
              <a:ext cx="7561440" cy="3773160"/>
              <a:chOff x="755640" y="2103480"/>
              <a:chExt cx="7561440" cy="3773160"/>
            </a:xfrm>
          </p:grpSpPr>
          <p:sp>
            <p:nvSpPr>
              <p:cNvPr id="173" name="Rectangle 159"/>
              <p:cNvSpPr/>
              <p:nvPr/>
            </p:nvSpPr>
            <p:spPr>
              <a:xfrm>
                <a:off x="6841800" y="2103480"/>
                <a:ext cx="1475280" cy="1148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基于认知信息加工的态度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74" name="Group 160"/>
              <p:cNvGrpSpPr/>
              <p:nvPr/>
            </p:nvGrpSpPr>
            <p:grpSpPr>
              <a:xfrm>
                <a:off x="755640" y="2431440"/>
                <a:ext cx="7561080" cy="3445200"/>
                <a:chOff x="755640" y="2431440"/>
                <a:chExt cx="7561080" cy="3445200"/>
              </a:xfrm>
            </p:grpSpPr>
            <p:sp>
              <p:nvSpPr>
                <p:cNvPr id="175" name="Oval 161"/>
                <p:cNvSpPr/>
                <p:nvPr/>
              </p:nvSpPr>
              <p:spPr>
                <a:xfrm>
                  <a:off x="755640" y="253332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6" name="Rectangle 162"/>
                <p:cNvSpPr/>
                <p:nvPr/>
              </p:nvSpPr>
              <p:spPr>
                <a:xfrm>
                  <a:off x="4997160" y="251136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7" name="AutoShape 163"/>
                <p:cNvSpPr/>
                <p:nvPr/>
              </p:nvSpPr>
              <p:spPr>
                <a:xfrm>
                  <a:off x="2784240" y="2431440"/>
                  <a:ext cx="129096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8" name="Oval 164"/>
                <p:cNvSpPr/>
                <p:nvPr/>
              </p:nvSpPr>
              <p:spPr>
                <a:xfrm>
                  <a:off x="755640" y="3761280"/>
                  <a:ext cx="1106640" cy="5000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9" name="Rectangle 165"/>
                <p:cNvSpPr/>
                <p:nvPr/>
              </p:nvSpPr>
              <p:spPr>
                <a:xfrm>
                  <a:off x="2784240" y="376128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0" name="AutoShape 166"/>
                <p:cNvSpPr/>
                <p:nvPr/>
              </p:nvSpPr>
              <p:spPr>
                <a:xfrm>
                  <a:off x="4812840" y="3674880"/>
                  <a:ext cx="1288800" cy="66492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1" name="Rectangle 167"/>
                <p:cNvSpPr/>
                <p:nvPr/>
              </p:nvSpPr>
              <p:spPr>
                <a:xfrm>
                  <a:off x="6841440" y="342900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行为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2" name="Rectangle 168"/>
                <p:cNvSpPr/>
                <p:nvPr/>
              </p:nvSpPr>
              <p:spPr>
                <a:xfrm>
                  <a:off x="2784240" y="5037120"/>
                  <a:ext cx="1105200" cy="501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行为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3" name="AutoShape 169"/>
                <p:cNvSpPr/>
                <p:nvPr/>
              </p:nvSpPr>
              <p:spPr>
                <a:xfrm>
                  <a:off x="755640" y="4957200"/>
                  <a:ext cx="1286640" cy="663840"/>
                </a:xfrm>
                <a:prstGeom prst="diamond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感情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84" name="Rectangle 170"/>
                <p:cNvSpPr/>
                <p:nvPr/>
              </p:nvSpPr>
              <p:spPr>
                <a:xfrm>
                  <a:off x="6841440" y="4710960"/>
                  <a:ext cx="1475280" cy="11656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基于感情信息加工的态度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074480" y="2762640"/>
                  <a:ext cx="922680" cy="1080"/>
                  <a:chOff x="4074480" y="2762640"/>
                  <a:chExt cx="922680" cy="1080"/>
                </a:xfrm>
              </p:grpSpPr>
              <p:cxnSp>
                <p:nvCxnSpPr>
                  <p:cNvPr id="186" name="AutoShape 171"/>
                  <p:cNvCxnSpPr/>
                  <p:nvPr/>
                </p:nvCxnSpPr>
                <p:spPr>
                  <a:xfrm flipV="1">
                    <a:off x="4074840" y="27626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87" name=""/>
                  <p:cNvSpPr txBox="1"/>
                  <p:nvPr/>
                </p:nvSpPr>
                <p:spPr>
                  <a:xfrm rot="10800000">
                    <a:off x="4074480" y="276300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88" name=""/>
                <p:cNvGrpSpPr/>
                <p:nvPr/>
              </p:nvGrpSpPr>
              <p:grpSpPr>
                <a:xfrm>
                  <a:off x="1861560" y="2763360"/>
                  <a:ext cx="922680" cy="20520"/>
                  <a:chOff x="1861560" y="2763360"/>
                  <a:chExt cx="922680" cy="20520"/>
                </a:xfrm>
              </p:grpSpPr>
              <p:cxnSp>
                <p:nvCxnSpPr>
                  <p:cNvPr id="189" name="AutoShape 172"/>
                  <p:cNvCxnSpPr/>
                  <p:nvPr/>
                </p:nvCxnSpPr>
                <p:spPr>
                  <a:xfrm flipV="1">
                    <a:off x="1861920" y="2763360"/>
                    <a:ext cx="922680" cy="208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0" name=""/>
                  <p:cNvSpPr txBox="1"/>
                  <p:nvPr/>
                </p:nvSpPr>
                <p:spPr>
                  <a:xfrm rot="10800000">
                    <a:off x="1861560" y="2763720"/>
                    <a:ext cx="921960" cy="20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26640" bIns="-266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1" name=""/>
                <p:cNvGrpSpPr/>
                <p:nvPr/>
              </p:nvGrpSpPr>
              <p:grpSpPr>
                <a:xfrm>
                  <a:off x="6102720" y="2750760"/>
                  <a:ext cx="739080" cy="11880"/>
                  <a:chOff x="6102720" y="2750760"/>
                  <a:chExt cx="739080" cy="11880"/>
                </a:xfrm>
              </p:grpSpPr>
              <p:cxnSp>
                <p:nvCxnSpPr>
                  <p:cNvPr id="192" name="AutoShape 173"/>
                  <p:cNvCxnSpPr/>
                  <p:nvPr/>
                </p:nvCxnSpPr>
                <p:spPr>
                  <a:xfrm flipV="1">
                    <a:off x="6102720" y="2750760"/>
                    <a:ext cx="739440" cy="122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3" name=""/>
                  <p:cNvSpPr txBox="1"/>
                  <p:nvPr/>
                </p:nvSpPr>
                <p:spPr>
                  <a:xfrm rot="10800000">
                    <a:off x="6102720" y="2751120"/>
                    <a:ext cx="738720" cy="1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4" name=""/>
                <p:cNvGrpSpPr/>
                <p:nvPr/>
              </p:nvGrpSpPr>
              <p:grpSpPr>
                <a:xfrm>
                  <a:off x="1861920" y="4011840"/>
                  <a:ext cx="922320" cy="1080"/>
                  <a:chOff x="1861920" y="4011840"/>
                  <a:chExt cx="922320" cy="1080"/>
                </a:xfrm>
              </p:grpSpPr>
              <p:cxnSp>
                <p:nvCxnSpPr>
                  <p:cNvPr id="195" name="AutoShape 174"/>
                  <p:cNvCxnSpPr/>
                  <p:nvPr/>
                </p:nvCxnSpPr>
                <p:spPr>
                  <a:xfrm>
                    <a:off x="1861920" y="4011840"/>
                    <a:ext cx="92268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6" name=""/>
                  <p:cNvSpPr txBox="1"/>
                  <p:nvPr/>
                </p:nvSpPr>
                <p:spPr>
                  <a:xfrm>
                    <a:off x="1861920" y="4011840"/>
                    <a:ext cx="92196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197" name=""/>
                <p:cNvGrpSpPr/>
                <p:nvPr/>
              </p:nvGrpSpPr>
              <p:grpSpPr>
                <a:xfrm>
                  <a:off x="3889440" y="4007160"/>
                  <a:ext cx="923400" cy="5400"/>
                  <a:chOff x="3889440" y="4007160"/>
                  <a:chExt cx="923400" cy="5400"/>
                </a:xfrm>
              </p:grpSpPr>
              <p:cxnSp>
                <p:nvCxnSpPr>
                  <p:cNvPr id="198" name="AutoShape 175"/>
                  <p:cNvCxnSpPr/>
                  <p:nvPr/>
                </p:nvCxnSpPr>
                <p:spPr>
                  <a:xfrm flipV="1">
                    <a:off x="3889440" y="4007160"/>
                    <a:ext cx="923760" cy="576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199" name=""/>
                  <p:cNvSpPr txBox="1"/>
                  <p:nvPr/>
                </p:nvSpPr>
                <p:spPr>
                  <a:xfrm rot="10800000">
                    <a:off x="3889440" y="4007520"/>
                    <a:ext cx="923040" cy="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1760" bIns="-41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0" name=""/>
                <p:cNvGrpSpPr/>
                <p:nvPr/>
              </p:nvGrpSpPr>
              <p:grpSpPr>
                <a:xfrm>
                  <a:off x="6101640" y="4007520"/>
                  <a:ext cx="739800" cy="4680"/>
                  <a:chOff x="6101640" y="4007520"/>
                  <a:chExt cx="739800" cy="4680"/>
                </a:xfrm>
              </p:grpSpPr>
              <p:cxnSp>
                <p:nvCxnSpPr>
                  <p:cNvPr id="201" name="AutoShape 176"/>
                  <p:cNvCxnSpPr/>
                  <p:nvPr/>
                </p:nvCxnSpPr>
                <p:spPr>
                  <a:xfrm>
                    <a:off x="6101640" y="4007520"/>
                    <a:ext cx="740160" cy="50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2" name=""/>
                  <p:cNvSpPr txBox="1"/>
                  <p:nvPr/>
                </p:nvSpPr>
                <p:spPr>
                  <a:xfrm>
                    <a:off x="6101640" y="4007520"/>
                    <a:ext cx="739440" cy="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2480" bIns="-424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203" name="Oval 177"/>
                <p:cNvSpPr/>
                <p:nvPr/>
              </p:nvSpPr>
              <p:spPr>
                <a:xfrm>
                  <a:off x="4812840" y="5052960"/>
                  <a:ext cx="1106280" cy="4996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认知</a:t>
                  </a:r>
                  <a:endParaRPr b="0" lang="en-US" sz="16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2042280" y="5288400"/>
                  <a:ext cx="741960" cy="1080"/>
                  <a:chOff x="2042280" y="5288400"/>
                  <a:chExt cx="741960" cy="1080"/>
                </a:xfrm>
              </p:grpSpPr>
              <p:cxnSp>
                <p:nvCxnSpPr>
                  <p:cNvPr id="205" name="AutoShape 178"/>
                  <p:cNvCxnSpPr/>
                  <p:nvPr/>
                </p:nvCxnSpPr>
                <p:spPr>
                  <a:xfrm flipV="1">
                    <a:off x="2042280" y="5288400"/>
                    <a:ext cx="742320" cy="14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6" name=""/>
                  <p:cNvSpPr txBox="1"/>
                  <p:nvPr/>
                </p:nvSpPr>
                <p:spPr>
                  <a:xfrm rot="10800000">
                    <a:off x="2042280" y="5288760"/>
                    <a:ext cx="7416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3889440" y="5288760"/>
                  <a:ext cx="923400" cy="14760"/>
                  <a:chOff x="3889440" y="5288760"/>
                  <a:chExt cx="923400" cy="14760"/>
                </a:xfrm>
              </p:grpSpPr>
              <p:cxnSp>
                <p:nvCxnSpPr>
                  <p:cNvPr id="208" name="AutoShape 179"/>
                  <p:cNvCxnSpPr/>
                  <p:nvPr/>
                </p:nvCxnSpPr>
                <p:spPr>
                  <a:xfrm>
                    <a:off x="3889440" y="5288760"/>
                    <a:ext cx="923760" cy="151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09" name=""/>
                  <p:cNvSpPr txBox="1"/>
                  <p:nvPr/>
                </p:nvSpPr>
                <p:spPr>
                  <a:xfrm>
                    <a:off x="3889440" y="5288760"/>
                    <a:ext cx="923040" cy="14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2400" bIns="-324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5918760" y="5293800"/>
                  <a:ext cx="922680" cy="9720"/>
                  <a:chOff x="5918760" y="5293800"/>
                  <a:chExt cx="922680" cy="9720"/>
                </a:xfrm>
              </p:grpSpPr>
              <p:cxnSp>
                <p:nvCxnSpPr>
                  <p:cNvPr id="211" name="AutoShape 180"/>
                  <p:cNvCxnSpPr/>
                  <p:nvPr/>
                </p:nvCxnSpPr>
                <p:spPr>
                  <a:xfrm flipV="1">
                    <a:off x="5919120" y="5293800"/>
                    <a:ext cx="922680" cy="10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</p:cxnSp>
              <p:sp>
                <p:nvSpPr>
                  <p:cNvPr id="212" name=""/>
                  <p:cNvSpPr txBox="1"/>
                  <p:nvPr/>
                </p:nvSpPr>
                <p:spPr>
                  <a:xfrm rot="10800000">
                    <a:off x="5918760" y="5294160"/>
                    <a:ext cx="921960" cy="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37440" bIns="-37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sp>
          <p:nvSpPr>
            <p:cNvPr id="213" name="Rectangle 181"/>
            <p:cNvSpPr/>
            <p:nvPr/>
          </p:nvSpPr>
          <p:spPr>
            <a:xfrm>
              <a:off x="859680" y="2156760"/>
              <a:ext cx="1409040" cy="3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标准学习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82"/>
            <p:cNvSpPr/>
            <p:nvPr/>
          </p:nvSpPr>
          <p:spPr>
            <a:xfrm>
              <a:off x="911880" y="3378960"/>
              <a:ext cx="1409040" cy="35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低介入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83"/>
            <p:cNvSpPr/>
            <p:nvPr/>
          </p:nvSpPr>
          <p:spPr>
            <a:xfrm>
              <a:off x="898920" y="4540320"/>
              <a:ext cx="1409040" cy="35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经验层级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456-F3F9-4EA2-9674-C3D1AB0AACA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消费者的态度构成与功能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42920" y="2060640"/>
            <a:ext cx="77882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态度的功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适应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识别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表现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卫功能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6486-BB6E-4FE5-9741-7A97477F16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692000" y="1915920"/>
            <a:ext cx="699444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B45-FB37-4321-A381-8AB6DC943CE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0920" y="1268280"/>
            <a:ext cx="77058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多属性态度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个要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属性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ttribute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信念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elief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要性权重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Importance Weight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费舍宾模型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Fishbein Mode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∑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j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407A-182C-4B9F-B391-0C0FA41E8F9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消费者态度的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620640"/>
            <a:ext cx="69944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理性行为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59640" cy="4546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2T14:49:34Z</dcterms:created>
  <dc:creator>zhangbo</dc:creator>
  <dc:description/>
  <dc:language>en-US</dc:language>
  <cp:lastModifiedBy>Administrator</cp:lastModifiedBy>
  <dcterms:modified xsi:type="dcterms:W3CDTF">2015-09-02T10:25:42Z</dcterms:modified>
  <cp:revision>25</cp:revision>
  <dc:subject/>
  <dc:title>第四章 消费者的态度的形成、改变与测量</dc:title>
</cp:coreProperties>
</file>